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png" ContentType="image/png"/>
  <Override PartName="/ppt/media/jeop.wav" ContentType="audio/x-wav"/>
  <Override PartName="/ppt/media/image4.jpeg" ContentType="image/jpeg"/>
  <Override PartName="/ppt/media/clap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4E5-062E-4557-87C3-6AA2B75A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721-6BF7-4940-850B-B0F120A9F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6E96-5A8C-4CAA-9CC9-606B6BFD2E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CED-2B1B-47D8-9318-72DAA36D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FEA-BB15-4E05-87DD-A4B8AC7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D25-4201-4C88-8FED-C0BFC081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257-19A0-46DD-A287-20FBDF1C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C696-0D0D-4431-B5F9-7B68F60E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6E33-6CF9-4F32-B0DC-CE0F3854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084-3F53-4A2A-8416-84F8BD52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2F49-05BA-4089-A4A7-6C540522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4C8C-BE00-4094-BB29-A9DC3EF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397-60AE-4D3E-AB8A-D2BEDB9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ABB1-2A57-496A-B69E-49F8EC5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13F-0911-4749-AB10-06F34EE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FBF-CDC5-4297-89A0-DD24F8F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94B-1D64-475E-86ED-20BF2DB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A82A-7CF0-4E1D-9CC6-D20590DA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9BF1-A656-48A6-9BB7-026A5CC4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9152-A693-4950-BB61-58A14D6B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43A-B3C7-4A7C-95B7-A3A1A622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C7E-E244-4D1A-BB61-394DD5A1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F44-12FA-4552-9A47-6646D603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2A1-4103-46A6-99ED-6310B79E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54-FE3C-4F3A-8414-35597ED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3C5-5FE1-4F02-ABB5-648347A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929-DB75-4B10-9E0C-19B9112C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CE75-F0A2-4948-9D6E-04CA44AF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812-6F1C-4CAE-9425-5444869A8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audio" Target="../media/jeop.wav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295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600200"/>
          <a:ext cx="783432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343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5257800" y="1219320"/>
            <a:ext cx="1447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87520" y="180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Vocab Lección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9880" y="17636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Vocab Lección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38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898560" y="3241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898560" y="40035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5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98560" y="47656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98560" y="5527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51460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8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556272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9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0384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0102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5146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038480" y="3276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5627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7155000" y="3276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5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5146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39625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7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5538960" y="39625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155000" y="403848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146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38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556272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7155000" y="480060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25146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0384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56272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7155000" y="5562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Jeopardy.wav" descr=""/>
          <p:cNvPicPr/>
          <p:nvPr/>
        </p:nvPicPr>
        <p:blipFill>
          <a:blip r:embed="rId29"/>
          <a:stretch/>
        </p:blipFill>
        <p:spPr>
          <a:xfrm>
            <a:off x="-152388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Jeopardy.wav" descr=""/>
          <p:cNvPicPr/>
          <p:nvPr/>
        </p:nvPicPr>
        <p:blipFill>
          <a:blip r:embed="rId30"/>
          <a:stretch/>
        </p:blipFill>
        <p:spPr>
          <a:xfrm>
            <a:off x="-121932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3"/>
          <p:cNvSpPr/>
          <p:nvPr/>
        </p:nvSpPr>
        <p:spPr>
          <a:xfrm>
            <a:off x="914400" y="1800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Vocab Lección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02160" y="16398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El viaje de Ca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010280" y="1751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on Quij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501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1981080"/>
            <a:ext cx="84582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ersona que mira la televi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2514600"/>
            <a:ext cx="342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elevid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64680" y="2138400"/>
            <a:ext cx="29894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 de la vi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743200" y="2590920"/>
            <a:ext cx="335268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uer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828800" y="2209680"/>
            <a:ext cx="525780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er un argu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32960" y="2438280"/>
            <a:ext cx="42681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learse/ discut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459080" y="2214720"/>
            <a:ext cx="55512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co o ch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95240" y="2448000"/>
            <a:ext cx="17978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éne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905120" y="2367000"/>
            <a:ext cx="51814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itar a un niñ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2362320"/>
            <a:ext cx="2590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añ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95280" y="2971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452040" y="2068560"/>
            <a:ext cx="21556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dia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600200" y="2362320"/>
            <a:ext cx="52578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 nombre cor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588840" y="2514600"/>
            <a:ext cx="16437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819520" y="2260440"/>
            <a:ext cx="34290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océa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505320" y="2549520"/>
            <a:ext cx="20574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m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489120" y="2438280"/>
            <a:ext cx="17780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sel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24080" y="2665440"/>
            <a:ext cx="4410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bosque trop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352680" y="2286000"/>
            <a:ext cx="236232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e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84760" y="2673360"/>
            <a:ext cx="27457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incen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3360" y="2297160"/>
            <a:ext cx="777852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a formación tiene muchas montañ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743200" y="2666880"/>
            <a:ext cx="342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dille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76720" y="3048120"/>
            <a:ext cx="533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2236680"/>
            <a:ext cx="38098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periód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3" name="4DFAB4C9.WAV" descr=""/>
          <p:cNvPicPr/>
          <p:nvPr/>
        </p:nvPicPr>
        <p:blipFill>
          <a:blip r:embed="rId3"/>
          <a:stretch/>
        </p:blipFill>
        <p:spPr>
          <a:xfrm>
            <a:off x="-2057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4DFAB4C9.WAV" descr=""/>
          <p:cNvPicPr/>
          <p:nvPr/>
        </p:nvPicPr>
        <p:blipFill>
          <a:blip r:embed="rId4"/>
          <a:stretch/>
        </p:blipFill>
        <p:spPr>
          <a:xfrm>
            <a:off x="-190512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971800" y="2133720"/>
            <a:ext cx="29718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botar, tir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817080" y="2681280"/>
            <a:ext cx="15174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ch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2286000"/>
            <a:ext cx="76960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co o nacionalista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aro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895480" y="2514600"/>
            <a:ext cx="30481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914400" y="2286000"/>
            <a:ext cx="76960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co o nacionalista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l tío de Caro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2895480" y="2514600"/>
            <a:ext cx="30481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cionalis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914400" y="2286000"/>
            <a:ext cx="76960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co o nacionalista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l abuelo de Caro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2895480" y="2514600"/>
            <a:ext cx="30481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estra de Carol se llama 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048120" y="2514600"/>
            <a:ext cx="26668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u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78480" y="2286000"/>
            <a:ext cx="725040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primera página de una revi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459080" y="2362320"/>
            <a:ext cx="665316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buelo de Carol no quiere vivir con ella ______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499840" y="2371680"/>
            <a:ext cx="39283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 proteger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00840" y="2514600"/>
            <a:ext cx="825336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migo de Don Quijote es 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09480" y="3124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14600" y="2629080"/>
            <a:ext cx="39625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ncho Pan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5" name="9316E628.WAV" descr=""/>
          <p:cNvPicPr/>
          <p:nvPr/>
        </p:nvPicPr>
        <p:blipFill>
          <a:blip r:embed="rId3"/>
          <a:stretch/>
        </p:blipFill>
        <p:spPr>
          <a:xfrm>
            <a:off x="-175248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9316E628.WAV" descr=""/>
          <p:cNvPicPr/>
          <p:nvPr/>
        </p:nvPicPr>
        <p:blipFill>
          <a:blip r:embed="rId4"/>
          <a:stretch/>
        </p:blipFill>
        <p:spPr>
          <a:xfrm>
            <a:off x="-243828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3048120" y="3124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219320" y="2171880"/>
            <a:ext cx="6248160" cy="1922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ama de Don Qujote se llama 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134880" y="2819520"/>
            <a:ext cx="22946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lcin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19320" y="2590920"/>
            <a:ext cx="67816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nombre actual de Don Quijote es _____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286000" y="2743200"/>
            <a:ext cx="42670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so Quij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80880" y="2057400"/>
            <a:ext cx="838224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Don Quijote battles a windmill, he thinks it’s a _______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3664440" y="2805120"/>
            <a:ext cx="1393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517920" y="2590920"/>
            <a:ext cx="242568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porta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1981080"/>
            <a:ext cx="83818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 Quijote’s enemy is ______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048120" y="2573280"/>
            <a:ext cx="3124080" cy="1312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reat Enchan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533520" y="2286000"/>
            <a:ext cx="7848360" cy="21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 the different things that Don Quijote mistakes throughout the mov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7" name="Jeopardy.wav" descr=""/>
          <p:cNvPicPr/>
          <p:nvPr/>
        </p:nvPicPr>
        <p:blipFill>
          <a:blip r:embed="rId2"/>
          <a:stretch/>
        </p:blipFill>
        <p:spPr>
          <a:xfrm>
            <a:off x="-13716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3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opardy template designed by Patricia Kelly, Fitchburg High School, Fitchburg,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questions designed by Jessica Kaplan, Norwood High School, Norwood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048120" y="2487600"/>
            <a:ext cx="251460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dir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589560" y="2695680"/>
            <a:ext cx="18770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 v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2743200" y="2090880"/>
            <a:ext cx="35812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g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212640" y="2438280"/>
            <a:ext cx="228384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públ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essica Kaplan</cp:lastModifiedBy>
  <dcterms:modified xsi:type="dcterms:W3CDTF">2014-06-16T16:59:24Z</dcterms:modified>
  <cp:revision>161</cp:revision>
  <dc:subject/>
  <dc:title>Jeopardy</dc:title>
</cp:coreProperties>
</file>